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D9F-F673-424C-9FAE-00CCE7E1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11C-8A3D-4FA7-BA46-9651999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D66-0D01-4A0B-AEB5-37887ABE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A77-60E4-4E44-B04A-2E51AD9C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E566-8484-4AE0-9CB0-7114574F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070B-475B-4886-B4BB-3F66B9DF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B50-29CF-4404-9C72-6E5ABA4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3422-EEB6-4F01-B23A-BDE41482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7F74-DF26-4D80-94D3-6004D983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9E16-7FAF-47BC-8E90-71ADC015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79E1-F3B9-4290-9097-DFF0F96F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110-965D-4F84-B16A-6074718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EFBC-A803-401C-BDC7-437FD0F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8D1-7202-4937-8B41-24FCB5DF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38A2-1C9A-44A0-87D2-4E16D879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33A3-D8D0-4B54-8B60-0CE2E2CC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97144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76172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E2A-D1DE-43DA-AEBA-6F066FC4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55F-E7AE-4139-9A9A-8523D44C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90A-5D5A-4167-AE2E-12F10B69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670-ED1A-4500-B47C-092063F4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B2A-0AD9-4DD4-B0F3-0122159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401-B6D8-4ACF-8D79-6547E21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76172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FB5-2EA5-4DA1-881A-23471FA3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97144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76172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EB3-17B0-441C-A20A-03DD6EAC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 Black"/>
              </a:rPr>
              <a:t>HOL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orld History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HE HUMAN JOURNE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OLT, RINEHART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WINST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3" marL="150408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4" marL="1933920" indent="-21456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5" marL="1933920" indent="-214560">
              <a:spcBef>
                <a:spcPts val="7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6" marL="1933920" indent="-214560">
              <a:spcBef>
                <a:spcPts val="7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cc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&lt;foot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D968-A052-495A-B9C7-D7CBBE413B73}" type="slidenum">
              <a:rPr b="0" lang="en-US" sz="18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 Black"/>
              </a:rPr>
              <a:t>HOL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cc00"/>
                </a:solidFill>
                <a:latin typeface="Times New Roman"/>
              </a:rPr>
              <a:t>World History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4514760"/>
                <a:tab algn="r" pos="87440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HE HUMAN JOURNE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c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OLT, RINEHART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WINST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115-3AF6-4817-8909-28D4F750CAE2}" type="slidenum">
              <a:rPr b="0" lang="en-US" sz="18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2857680" indent="0" algn="ctr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2971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30862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4" marL="3200400" algn="ctr">
              <a:spcBef>
                <a:spcPts val="4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5" marL="3200400">
              <a:spcBef>
                <a:spcPts val="4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6" marL="3200400">
              <a:spcBef>
                <a:spcPts val="400"/>
              </a:spcBef>
              <a:buClr>
                <a:srgbClr val="f8f8f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he French Revolution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and Napoléon</a:t>
            </a:r>
            <a:endParaRPr b="1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1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Roots of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2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French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3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French Republi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4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The Napoléonic E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ection 5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A Return to Pea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09800"/>
            <a:ext cx="3656160" cy="609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CHAPTER 21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Spread of the Revolu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3059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uring the meeting of the Estates General, King Louis XVI moved troops into position to drive out the Assembl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arisians took action against the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apture of Bastille prison, looted for weapons and destroyed the Bastil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eneral Lafayette formed the National Guar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lag of Red, White, Bl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easants developed “Great Fear”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ear that the Nobles would try to end the Revolution by crushing the peasan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easants attacked local manor houses, destroyed documents recording rents, dues, and obligation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CAB-424A-4415-8689-E012081868C7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End of the Old Regim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38188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ried to end violence by ending feudalism, outlawing tithes, canceling dues and services of peasant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Declaration of the Rights of Man – basic human rights and political powers, applied to men onl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en are born equal, freedom of speech, press, and relig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ll men have right to public office, right of fair tria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iberty, equality, fraternity”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Émigrés and royalists – forced Louis XVI and family to return to Paris, supported the Old Regim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D50-2F8E-405C-9F1F-C7CC74A8B2D8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Constitution of 1791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imited powers of k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vided government into three branches: executive, legislative, and judi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737-9871-4970-B29F-7EC7020791F7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Legislative Assembly and Wa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ecutive branch was we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ure was inexperienced; divided into conservatives, radicals, and moderat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ive Assembly united to wage war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 Austri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B31-8A90-4972-A124-63279A82EAD1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End of the Monarchy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ouis XVI plotted with foreign powers to overthrow Constitution of 17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egislative Assembly ended the Monarch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tional Convention drew up new constit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FC9-CE6F-4738-8790-89D14F8F78C3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National Conven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Universal manhood suffrage – every adult male could vot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ree main group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irondins- Republicans that fear Paris would dominate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cobins-supported the dominance of France by Par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nd delegates who had no definite view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2FE-4B79-42BE-8DF2-04341FA1CC59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Exporting the Revolu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rance was being invaded by an alliance of Great Britian, the Netherlands, Spain, Sardinia, Austria, and Pruss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ommittee of Public Safe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dopted “conscription” a dr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All unmarried, able-bodied men between 18-25 were subject to Military servic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pposition – European monarchs formed an alliance against Franc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unterrevolutionary armies developed and fought the revolutionary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340-CB24-497F-9D0C-B2C5215FB5A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Reign of Terr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ign of Terror- Sept 1793- July 179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tional Convention worked to suppress all opposition and revolts within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volutionary Tribunal – tried to suppress all opposition and revolts within F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unished and executed those that were part of or believed to be part of the counterrevolu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388-B4FB-4CF4-AA6A-117EF225352D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Work of the National Conven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bolished slaver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lanned public educ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dopted metric syste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744-9274-4AEA-B800-BF9C9E320FD7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Directory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overned by five individuals from the government’s executive branc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liminated universal manhood suffra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eak, corrupt rul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789-6AA9-4661-B65D-0AAA3797CF09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:                   Trivia: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1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 1-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0920" y="2971440"/>
            <a:ext cx="487692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nuary 7</a:t>
            </a:r>
            <a:r>
              <a:rPr b="0" lang="en-US" sz="2400" spc="-1" strike="noStrike" baseline="30000">
                <a:solidFill>
                  <a:srgbClr val="f8f8f8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, 1789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first U.S. Presidential election is held, only white men with property were allowed to vot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4D6-5FAF-4D1C-B021-DAA49BCC8E56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ssignment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Quiz 21.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ad sections 3 and 4 (517-528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orksheet 21.3 &amp; 21.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3E5-E9FD-4B84-8A82-1C5CA4F0AD5F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age 528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# 1 &amp; 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FFB-6F75-4857-B8A2-88152916F031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904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Bonapart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7631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orn in 1769 on the French Island of Corsica, attended Military school in France, stood only 5’2”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y age 26 he was already a General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rried a leader of French society, Josephine de Beauharnai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ise of Napoléon – strong military leader, gained control of all northern Italy for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poléon takes power – coup d’état due to unstable govern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Used force to over take powe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3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public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7E0-60D8-4EEA-A097-70990132E990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as Dictat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Consulate – Napoléon gave himself unlimited power-Dictato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799-1814 Napoleonic Era or Age of Napole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rst five years were called The Consulat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He wrote a new constitution and put it to the people to vote, which was approved by the peopl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ccomplishments in governm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Napoléonic Cod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ank of Franc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ublic education-high schools, universities, technical school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ncordat-agreement with the Pope of Roman Catholic Church-acknowledged that most of France was catholic, but allowed religious freedo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B54-DCB5-4865-94C2-B28592288E30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Napoléon as Emperor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French people voted to become an empi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poléon crowned himself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ower permanent and heredita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feated Austria and Russi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lockade of British Isl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052-8E16-41AE-98CE-23D32867F9A9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Reorganization of Europ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creased nationalism – Napoléon placed members of his own family as monarchs of countries he conquered; loyalty and patriotis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Peninsular War – Spanish and Portuguese revolt against French ru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rove Napoleon’s family out of rule in Spai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91F-06A5-414F-A224-2A6ED8A5DE80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atastrophe in Russia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8763120" cy="37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Upset that Russia was trading with Great Brittan, though they were allies with Franc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Grand Army of 600,000 – marched to Russia, but were defeated through lack of proper housing and supplies, scorched eart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ussian winter was coming so the retreate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nal defeat – Western European countries allied against France and Napole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estored the Monarchy to Louis XVIII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AF2-2079-42D9-AB1B-866F51DC8E44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Hundred Day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86868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uring 1814 and early 1815 Napoleon escaped exile in Elba and returned to Franc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King sent army to capture Napole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Napoleon convinced them to join him against k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Napoléon led this army into France drove out the King and ruled for one hundred days until Britain, Prussia, and Netherlands were victorious and forced him into exi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4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Napoléonic Era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9D4-EE6D-4A7C-9E14-91C2168A9E7D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: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3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# 1&amp; 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January 15, 199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im Berners-Lee (who invented the world wide web) released the first web browser software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E90-D7B7-42E1-93D5-CD1EA959AD03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057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Congress of Vienna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principles of the Congress of Vienna, Aust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estore order, avoid further rebellions against monarchy, keep peace, suppress possible revolu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et to achieve stability in Europe and settle Territorial question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ompensation-the countries that had suffered the most at the hands of Napoleon had to be paid back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alance of power-had to be restored to Europe so that no country became to powerfu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gitimacy-all former ruling families should be restored to their thron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037-DFB3-4F44-BBB7-B3D6C4BF79F8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Old Regim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30592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privileged estates –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 Estate was clergy of Roman Catholic Church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ss then 1% of French Popula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Owned 15% of French La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Collected Rent, taxes and fees from Lan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 Estate was nobili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Less then 2% of French popula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Held highest positions in Government and Army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Paid few if any taxes, collected dues from peasant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952-0A67-4163-A2D0-5E3E873C6F3A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Reactionary Alliance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ppose change and try to undo chang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stored balance of pow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phasized conservative view to prevent revolu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013-583D-4065-A514-98F65A8955C0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Age of Metternich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rince Metternich-a reactionary who believed in absolute monarch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Used Secret police and Military suppression to stop liberalism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iberalism-Extended the ideas of the American and French Revolution.  Individual rights and rule of law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etternich suppressed freedoms such as press and speech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5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 Return to Peac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248-73E7-456E-A9F2-4AD94AD51ACC}" type="slidenum">
              <a:t>31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Third estate – The rest of French Population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97%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bourgeoisie (urban middle class)-merchants, manufacturers, professional people such as Doctors and Lawyer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city workers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Artisans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rural peasants-Largest group, poorest group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0A1-ADB3-40F1-9073-32471BA22209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Growing Disconten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creased population and cost of liv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amilies had more children, needed more money to l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igher estates raised rents and fe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urgeoisie wanted liberty and equalit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ad gained strength and prosperit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D4D-1B73-4E7B-AC87-5BE693664D2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Financial Crisi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75438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ssistance to United States during American Revolution led to France’s increased debt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59 Year reign of Louis XV, he was faced with debts inherited from Louis the XIV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Louis XVI tried to raise taxes, hoped a meeting of all three estates would approve new tax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Married Marie-Antoinette, daughter of Austrian ruler, Maria Theres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anks refused to loan French government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ore mone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F3C-7242-421D-8963-1AF8D21213C8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The Meeting of the Estates General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three estates had previously met separatel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rd Estate wanted representatives to vote as individual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1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Roots of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778-4A55-4BD0-8D2A-0365E6C9268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ssignment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orksheet 21.1-21.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Read Sections 1 and 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e prepared for qui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08D-6446-468F-B0BE-496C5EE08A88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Bellwork             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1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1, 2, 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age 52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#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0" y="8708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tion 2: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55760"/>
            <a:ext cx="9144000" cy="7318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he French Revolutio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AF1-71B6-45E3-920B-DE56DE89B183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0:56:12Z</dcterms:created>
  <dc:creator>M. C. McLaughlin</dc:creator>
  <dc:description/>
  <dc:language>en-US</dc:language>
  <cp:lastModifiedBy>mhimmelhaver</cp:lastModifiedBy>
  <dcterms:modified xsi:type="dcterms:W3CDTF">2009-01-20T13:28:32Z</dcterms:modified>
  <cp:revision>20</cp:revision>
  <dc:subject/>
  <dc:title>CHAPTER 21: The French Revolution and Napoléon</dc:title>
</cp:coreProperties>
</file>